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explode.wav" ContentType="audio/x-wav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00C-368F-44F3-867F-247A1E0C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AAC-4928-4657-937F-9CB01DEA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516-C2E4-4B48-BD73-CA8FE01D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BE5-1BEA-45A5-8781-16882A51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B5C8-1EA8-43D8-94C9-6D862EDB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456F-B279-4B19-BA33-C3E2A0E2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3623-D953-43B7-8179-0AFFC1B6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4C16-2084-4710-8568-A9F30064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31E3-38B3-49DE-8843-4CE9BC84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220C-E937-4F31-9ACC-7C01D0D6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8A55-E0A8-4FEA-9498-E9F0E878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E5B-817B-4824-A2F1-42C5EEE8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5F5F-C581-489C-B27A-DBA44A5D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B738-5E90-44E6-8EF5-A313D29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4FA5-453A-4BDF-B6E6-2DD8F9A8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688F-5EFD-4CE9-9D89-D5D44C35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A92B-A0E8-4915-A5A6-AE9FCC69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E51-1938-4DC2-8C8A-6E09C878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312-BE75-4D44-B004-3222AB25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548-85D5-47B9-B741-B55DBCCD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0C4-C4D5-496B-8F8C-D56A5695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AA1-CF79-4A19-9FAE-BF738019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E80-6520-4734-AEC1-12F4989F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5DF-0BE4-419F-BE4E-A88450D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D2EB-A1C2-4A7E-811C-0E21B944A13F}" type="slidenum">
              <a:rPr b="0" lang="es-E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3" name="Group 15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31"/>
            <p:cNvGrpSpPr/>
            <p:nvPr/>
          </p:nvGrpSpPr>
          <p:grpSpPr>
            <a:xfrm>
              <a:off x="5261040" y="1420560"/>
              <a:ext cx="1101600" cy="1103400"/>
              <a:chOff x="5261040" y="1420560"/>
              <a:chExt cx="1101600" cy="1103400"/>
            </a:xfrm>
          </p:grpSpPr>
          <p:pic>
            <p:nvPicPr>
              <p:cNvPr id="355" name="Oval 31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0560"/>
                <a:ext cx="110160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800" y="1598400"/>
                <a:ext cx="75060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7" name="Oval 32"/>
            <p:cNvGrpSpPr/>
            <p:nvPr/>
          </p:nvGrpSpPr>
          <p:grpSpPr>
            <a:xfrm>
              <a:off x="5427720" y="1396800"/>
              <a:ext cx="851400" cy="854280"/>
              <a:chOff x="5427720" y="1396800"/>
              <a:chExt cx="851400" cy="854280"/>
            </a:xfrm>
          </p:grpSpPr>
          <p:pic>
            <p:nvPicPr>
              <p:cNvPr id="358" name="Oval 32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396800"/>
                <a:ext cx="85140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480" y="1537560"/>
                <a:ext cx="5734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0" name="Oval 28"/>
            <p:cNvGrpSpPr/>
            <p:nvPr/>
          </p:nvGrpSpPr>
          <p:grpSpPr>
            <a:xfrm>
              <a:off x="5040360" y="1865520"/>
              <a:ext cx="631080" cy="628560"/>
              <a:chOff x="5040360" y="1865520"/>
              <a:chExt cx="631080" cy="628560"/>
            </a:xfrm>
          </p:grpSpPr>
          <p:pic>
            <p:nvPicPr>
              <p:cNvPr id="361" name="Oval 28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5520"/>
                <a:ext cx="63108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4960"/>
                <a:ext cx="4161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3" name="Oval 30"/>
            <p:cNvGrpSpPr/>
            <p:nvPr/>
          </p:nvGrpSpPr>
          <p:grpSpPr>
            <a:xfrm>
              <a:off x="5207400" y="1788480"/>
              <a:ext cx="518040" cy="515880"/>
              <a:chOff x="5207400" y="1788480"/>
              <a:chExt cx="518040" cy="515880"/>
            </a:xfrm>
          </p:grpSpPr>
          <p:pic>
            <p:nvPicPr>
              <p:cNvPr id="364" name="Oval 30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88480"/>
                <a:ext cx="51804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8120"/>
                <a:ext cx="33804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6" name="Oval 27"/>
            <p:cNvGrpSpPr/>
            <p:nvPr/>
          </p:nvGrpSpPr>
          <p:grpSpPr>
            <a:xfrm>
              <a:off x="4516560" y="2049480"/>
              <a:ext cx="291600" cy="296640"/>
              <a:chOff x="4516560" y="2049480"/>
              <a:chExt cx="291600" cy="296640"/>
            </a:xfrm>
          </p:grpSpPr>
          <p:pic>
            <p:nvPicPr>
              <p:cNvPr id="367" name="Oval 27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49480"/>
                <a:ext cx="291600" cy="2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5960" y="2109600"/>
                <a:ext cx="17712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9" name="Oval 29"/>
            <p:cNvGrpSpPr/>
            <p:nvPr/>
          </p:nvGrpSpPr>
          <p:grpSpPr>
            <a:xfrm>
              <a:off x="5898240" y="993600"/>
              <a:ext cx="291600" cy="290520"/>
              <a:chOff x="5898240" y="993600"/>
              <a:chExt cx="291600" cy="290520"/>
            </a:xfrm>
          </p:grpSpPr>
          <p:pic>
            <p:nvPicPr>
              <p:cNvPr id="370" name="Oval 29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920" y="1048680"/>
                <a:ext cx="17712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2" name="Oval 33"/>
            <p:cNvGrpSpPr/>
            <p:nvPr/>
          </p:nvGrpSpPr>
          <p:grpSpPr>
            <a:xfrm>
              <a:off x="4849920" y="1865520"/>
              <a:ext cx="237960" cy="237240"/>
              <a:chOff x="4849920" y="1865520"/>
              <a:chExt cx="237960" cy="237240"/>
            </a:xfrm>
          </p:grpSpPr>
          <p:pic>
            <p:nvPicPr>
              <p:cNvPr id="373" name="Oval 33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5520"/>
                <a:ext cx="23796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73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5" name="Oval 34"/>
            <p:cNvGrpSpPr/>
            <p:nvPr/>
          </p:nvGrpSpPr>
          <p:grpSpPr>
            <a:xfrm>
              <a:off x="5916240" y="1058760"/>
              <a:ext cx="232200" cy="231120"/>
              <a:chOff x="5916240" y="1058760"/>
              <a:chExt cx="232200" cy="231120"/>
            </a:xfrm>
          </p:grpSpPr>
          <p:pic>
            <p:nvPicPr>
              <p:cNvPr id="376" name="Oval 34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5876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840" y="11055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C5DC-CFC1-41D6-BA73-5290BB84D5CB}" type="slidenum">
              <a:rPr b="0" lang="es-E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3 Imagen" descr=""/>
          <p:cNvPicPr/>
          <p:nvPr/>
        </p:nvPicPr>
        <p:blipFill>
          <a:blip r:embed="rId1"/>
          <a:stretch/>
        </p:blipFill>
        <p:spPr>
          <a:xfrm>
            <a:off x="2013120" y="1268280"/>
            <a:ext cx="5511600" cy="51134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09800" y="333360"/>
            <a:ext cx="7124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Bell MT"/>
              </a:rPr>
              <a:t>MIS DERECH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2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1:42:05Z</dcterms:created>
  <dc:creator>usuario</dc:creator>
  <dc:description/>
  <dc:language>en-US</dc:language>
  <cp:lastModifiedBy>usuario</cp:lastModifiedBy>
  <dcterms:modified xsi:type="dcterms:W3CDTF">2013-04-03T01:49:31Z</dcterms:modified>
  <cp:revision>1</cp:revision>
  <dc:subject/>
  <dc:title>MIS DERECHOS</dc:title>
</cp:coreProperties>
</file>